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1B4-1346-4426-8B1E-64210504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7F6-4972-44D9-B8B8-6C3CEB9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DE6-4957-4EB1-8208-55E8EF9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166-19CE-4875-8C29-1784F4F3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9E1-995D-41FB-9F32-3733DB2C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B18-709C-4EFC-90E6-1A87DEC4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B24-862A-49A7-9A7C-0B5ED2D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CD0-4273-48A0-BA11-4A8FA36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DE8-DA1F-4058-A810-0CBC0AB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3A4-9513-49EE-AD81-9AD3912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B31-4BDC-4B35-80AB-41ABB98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0B4-C262-4927-AC09-813AF60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2361-9F85-47FD-AD3C-E0D99BE5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8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7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357720"/>
            <a:ext cx="385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ime differences between two times, showing all wor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6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1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2560" y="2090880"/>
            <a:ext cx="73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hen working out time difference we will us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Counting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method will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88880" y="3056040"/>
            <a:ext cx="68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: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Find the time difference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08 46 hrs and 11 52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404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eares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94640" y="45370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960" y="508320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’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01240" y="42670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8 46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9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7680" y="4719600"/>
            <a:ext cx="37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9 0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0480" y="515628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  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8640" y="3314880"/>
            <a:ext cx="3098520" cy="1612800"/>
          </a:xfrm>
          <a:prstGeom prst="cloudCallout">
            <a:avLst>
              <a:gd name="adj1" fmla="val 38064"/>
              <a:gd name="adj2" fmla="val 98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0 mins = 1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 hrs 6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3556080"/>
            <a:ext cx="2146320" cy="2692440"/>
          </a:xfrm>
          <a:prstGeom prst="rect">
            <a:avLst/>
          </a:prstGeom>
          <a:solidFill>
            <a:srgbClr val="777777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38768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63360" y="426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5400" y="471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8520" y="515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24120" y="56466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52360" y="6021360"/>
            <a:ext cx="1081080" cy="1027440"/>
            <a:chOff x="-252360" y="6021360"/>
            <a:chExt cx="1081080" cy="1027440"/>
          </a:xfrm>
        </p:grpSpPr>
        <p:sp>
          <p:nvSpPr>
            <p:cNvPr id="111" name=""/>
            <p:cNvSpPr/>
            <p:nvPr/>
          </p:nvSpPr>
          <p:spPr>
            <a:xfrm>
              <a:off x="-25236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7740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32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84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4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396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05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ind the time difference between 02 37 h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d 23 4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240" y="326376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2 37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3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01240" y="3716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3 0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040" y="4135320"/>
            <a:ext cx="46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30384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ares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94640" y="35337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9960" y="4079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What’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08760" y="2552760"/>
            <a:ext cx="2146320" cy="3568680"/>
          </a:xfrm>
          <a:prstGeom prst="rect">
            <a:avLst/>
          </a:prstGeom>
          <a:solidFill>
            <a:srgbClr val="777777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2873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6360" y="3263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93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16360" y="4135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01960" y="4643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62040" y="4052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92200" y="53038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1hrs 12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-252360" y="6021360"/>
            <a:ext cx="1081080" cy="1027440"/>
            <a:chOff x="-252360" y="6021360"/>
            <a:chExt cx="1081080" cy="1027440"/>
          </a:xfrm>
        </p:grpSpPr>
        <p:sp>
          <p:nvSpPr>
            <p:cNvPr id="141" name=""/>
            <p:cNvSpPr/>
            <p:nvPr/>
          </p:nvSpPr>
          <p:spPr>
            <a:xfrm>
              <a:off x="-25236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740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32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084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44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396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7T14:23:39Z</dcterms:modified>
  <cp:revision>12</cp:revision>
  <dc:subject/>
  <dc:title>Slide 1</dc:title>
</cp:coreProperties>
</file>